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82B6-72F9-4C48-8CC6-22B47937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7DF3-ED3D-415C-B47E-B6E3B8EE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B6A-F452-411C-9ED5-D23FC503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2DD8-A522-44C7-AD19-9B73042E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2D0-E213-4CD5-A249-30AF523E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4F58-0E9A-4CA5-A4F8-305E3138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9CD244F-8BBB-44A3-A5DD-CB9D41FBE6E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4DB40B1-51C7-457F-96A6-B80C077F62E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B3CAFA2-1E0D-4806-8125-364002CA9E3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805360"/>
            <a:ext cx="8766000" cy="8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599840"/>
            <a:ext cx="769608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Set of design elements that can be applied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include: background, font, font size, and color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professional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59ABAF0-0A1B-4237-95B4-24DC94389A3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ibb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iew themes, Move mouse pointer to sample design on toolbar and h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36B4731-0D0D-4D14-AA64-4691A08B8FD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74600" y="3583080"/>
            <a:ext cx="76089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hanc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438280" y="4184640"/>
            <a:ext cx="4830840" cy="24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34880" y="1484280"/>
            <a:ext cx="847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a drawn picture, photo, or a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objects are graphics you draw and include in presentation (star, circle, other sh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 are separate files you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your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graphics include clipart or drawn illustrations you ca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E5A430D-4425-4C82-9E34-3AE82DD935D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 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lip Art button on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 image from the search results to insert it on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7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8D6F8FD-D080-4FE0-8A04-F3056C5AEE2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50800" y="2178000"/>
            <a:ext cx="5718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11-30T05:23:03Z</dcterms:modified>
  <cp:revision>18</cp:revision>
  <dc:subject/>
  <dc:title>Slide 1</dc:title>
</cp:coreProperties>
</file>